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98D8-EB89-4978-81CC-EFD7F79B6286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EE96-5E98-4E1D-A385-E7C873291DA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C455BF-5682-4618-AD46-5BC2BC3F775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去除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上的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无忧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整理发布的文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首先打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，选择视图，然后选择幻灯片母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然后再在幻灯片母版视图中点击“无忧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整理发布”的文字文本框，删除，保存即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更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资源，请访问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无忧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PT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网站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http://www.51ppt.com.c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使用时删除本备注即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将此幻灯片插入到演示文稿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将此模板作为演示文稿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文件）保存到计算机上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打开将包含该图像幻灯片的演示文稿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幻灯片”选项卡上，将插入点置于将位于该图像幻灯片之前的幻灯片之后。（确保不要选择幻灯片。插入点应位于幻灯片之间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插入”菜单上，单击“幻灯片（从文件）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幻灯片搜索器”对话框中，单击“搜索演示文稿”选项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单击“浏览”，找到并选择包含该图像幻灯片的演示文稿，然后单击“打开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幻灯片（从文件）”对话框中，选择该图像幻灯片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选中“保留源格式”复选框。如果不选中此复选框，复制的幻灯片将继承在演示文稿中位于它之前的幻灯片的设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单击“插入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单击“关闭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0815-70E1-4DD5-98DF-415AD05933D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E1E6E718-C46D-40B8-9C96-46C340714BF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4400" y="1309320"/>
            <a:ext cx="71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4400" y="2472840"/>
            <a:ext cx="71420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Quanquan</cp:lastModifiedBy>
  <dcterms:modified xsi:type="dcterms:W3CDTF">2011-09-13T07:45:02Z</dcterms:modified>
  <cp:revision>67</cp:revision>
  <dc:subject/>
  <dc:title>PowerPoint Template</dc:title>
</cp:coreProperties>
</file>